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B0B-9B26-470A-85F5-9D5AA913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202-C4DA-4D87-84A9-73CC3DB8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141-946A-4A0E-8917-260127B3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422-DCAA-415B-AF2D-77A45403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5C49-5085-4505-B11C-DA8F5401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4EFA-DDDC-4755-B2CF-ED0A637A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6DDB-5DEC-4922-B3DB-4CBDA994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8093-FA46-45EE-9554-DCD0EB7D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90BA-E199-4C04-A70B-B77757FE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5163-92BE-417D-8A45-0BA7954D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1AA1-0491-42A2-87C9-5069853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25B-BD5B-4F78-81C8-592C9E29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2218-292C-47B3-9628-C6D1539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3B29-640B-495F-A0E8-D3EB343F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5DC7-9F6D-47AD-993F-C2EF7112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713D-F6D9-464B-A480-1ED57FCB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E464-D209-40FB-906C-CA68CAC5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2D2-1B61-4E04-A33D-B794F315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A32-6C06-4282-97A8-692AD8F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6F8-CF2F-4E6D-9908-39DC678B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44C-5609-49DD-90B0-6006C068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7EA-516C-4F36-979A-76215DC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A66-C560-4CAC-A8EA-1352F34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27C-49B8-4128-8835-1B74BB8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A0CF-8564-4616-8888-15E6A2051A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CEC8-0B5F-4684-9201-8F38BF4E36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SIP Federation Special Interest Group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o’s Here, Who’s Missing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anuary 7, 2009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IP Federation Partners (Who’s Here?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 I ESIPs – Data &amp; Info Provid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a Cent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 II ESIPs – Product and Service  Provid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earchers Developing Products (for Research User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 III ESIPs – Earth Science Application Provid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plication Developers (for non-Research User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 IV ESIPs – Sponso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d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o’s Here: ESIP Federation Contex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mb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istrative Committ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Committ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ing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u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162920" y="1676520"/>
            <a:ext cx="1981080" cy="3581280"/>
            <a:chOff x="7162920" y="1676520"/>
            <a:chExt cx="1981080" cy="3581280"/>
          </a:xfrm>
        </p:grpSpPr>
        <p:sp>
          <p:nvSpPr>
            <p:cNvPr id="97" name=""/>
            <p:cNvSpPr/>
            <p:nvPr/>
          </p:nvSpPr>
          <p:spPr>
            <a:xfrm>
              <a:off x="7162920" y="1676520"/>
              <a:ext cx="0" cy="3581280"/>
            </a:xfrm>
            <a:prstGeom prst="line">
              <a:avLst/>
            </a:prstGeom>
            <a:ln w="101520">
              <a:solidFill>
                <a:srgbClr val="0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200" y="17524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4038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ess F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Who’s Missing?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logy inter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computing centers, software vendors, search engine developers, public 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bro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gital libraries, media, museums, DataNet winners, institutes of sustainabi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 users of environmental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 making bodies, environmental advocacy groups, teac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mentary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ional organizations, NGOs, standards bo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ilanthropic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represented earth scient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logists, geologists, hydrolog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deral A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GS, USDA, DOE, NIH, NS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’s miss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we engag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tential partner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isting partner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 we use existing structures or create new on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11:59Z</dcterms:created>
  <dc:creator> </dc:creator>
  <dc:description/>
  <dc:language>en-US</dc:language>
  <cp:lastModifiedBy> </cp:lastModifiedBy>
  <dcterms:modified xsi:type="dcterms:W3CDTF">2009-01-07T13:22:11Z</dcterms:modified>
  <cp:revision>18</cp:revision>
  <dc:subject/>
  <dc:title>ESIP Federation Special Interest Groups</dc:title>
</cp:coreProperties>
</file>